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47C-9655-49B5-AC3C-12D9A84B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BDD0-0FDB-4E39-BD61-FE4AA865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61B-6497-47A2-AAFE-8FCF2426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2EE-222F-4BB6-91B9-5930DDA8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5568-6D15-496D-95FC-8B45C0D8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A373-9B62-47DE-907D-FE087029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4FE0-3F1A-4E64-9BC6-414ED0D4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B2AA-86A9-494C-82D5-087871C3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501E-A464-4486-988C-F47853CE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A66F-1B13-4F91-9A1C-BA97E3BD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333C-E468-47C6-9EF1-DF5209A5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225-224C-4558-B23F-0620DC22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E480-7F88-42ED-B086-918EA5D5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B6F1-96B4-4EF0-ACD1-5F3F902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C507-AEDB-4FD0-9912-F9D78134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B107-873C-42BD-9F5D-43130450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BB0D-2432-41C0-9AD6-DEA4FCE0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10C-EE92-42B1-8E92-2B437C97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24A-BC03-4AD1-9937-2178B4FC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9CB-DE03-4D0A-B076-BFB798C6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6A7-D3A5-45B8-BBC0-CBC2B580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BE3-1BAE-4E9D-BBED-8538FC67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49D-291F-442B-A1C8-486714A5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F30-9D01-4FE3-8510-081950BA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D0DD-A756-47A5-A40F-1C790E2FED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0A7A-603D-4066-A36A-6557E6A8CB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South Asi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1905120"/>
            <a:ext cx="3962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943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638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057400" y="11430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Comic Sans MS"/>
              </a:rPr>
              <a:t>India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eveloping Open-Market Econom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ajor exports: Petroleum, precio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tones, machinery, iron/ste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mports: Crude oil, fertiliz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itic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Federal Repub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eligions: Hindu, Muslim, Christia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ikh, native/trib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anguages: Hindi, Bengali, Englis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tive/trib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.2 Billion (2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in the Worl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India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ical r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le under Mughal Empire (1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itish colonial rule from Mid-1800’s to 1947 (independ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fluence of East India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fficial end of cas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inued through cultural tra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276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ystem of social stratification and social restriction that divided Indian society into hereditary groups called Jati’s. (4 groups; 1 exclusionary ca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though identified with Hindu society, not specific to the Hindu relig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,500 years of cultural tra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social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581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s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ya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ri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581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s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h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ow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505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st social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asts- outsiders below cast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et swee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oom clea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considered part of social stra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1:32:53Z</dcterms:created>
  <dc:creator>R. Barrios</dc:creator>
  <dc:description/>
  <dc:language>en-US</dc:language>
  <cp:lastModifiedBy>R. Barrios</cp:lastModifiedBy>
  <dcterms:modified xsi:type="dcterms:W3CDTF">2012-04-05T04:08:32Z</dcterms:modified>
  <cp:revision>4</cp:revision>
  <dc:subject/>
  <dc:title>South Asia</dc:title>
</cp:coreProperties>
</file>